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5AE-295B-4FE8-8E7A-9AEAAB3B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510-CE10-483F-86FF-D7A66BD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5A4-F7E3-4001-AD9F-765953A4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0A2-BD8D-4277-ACE3-529033E5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6EE-ACBA-4365-AD53-0C563F6A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BF8-2EAD-4B9A-ADC2-59B67C64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B2D-2492-4A4D-B9FC-F70A2D97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753-1E99-4BA8-928D-0BB03FD7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1CB-DF10-4DF4-97B0-F53DF064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6B2-234F-4913-B156-53BBC091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0EA-7E2B-437D-80C9-9B17EB8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038-21F0-4981-B632-3C91752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FCF-07E9-4F05-BFC1-BFA7B3911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ID tes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-1143000"/>
            <a:ext cx="11658600" cy="9793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19920" y="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385920"/>
            <a:ext cx="1432548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295280" y="-380880"/>
            <a:ext cx="13716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73600" y="0"/>
            <a:ext cx="10540800" cy="1181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709560"/>
            <a:ext cx="76197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-533520"/>
            <a:ext cx="651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4:30:20Z</dcterms:created>
  <dc:creator>jayoig</dc:creator>
  <dc:description/>
  <dc:language>en-US</dc:language>
  <cp:lastModifiedBy>jayoig</cp:lastModifiedBy>
  <dcterms:modified xsi:type="dcterms:W3CDTF">2010-10-19T14:42:02Z</dcterms:modified>
  <cp:revision>2</cp:revision>
  <dc:subject/>
  <dc:title>Brain ID test practice</dc:title>
</cp:coreProperties>
</file>